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5F7-80FC-486C-9759-39D87C34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EE4-4F9F-44F6-9873-82E1BD38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FD8-ABDB-4B38-B26B-2D229C4C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C24-9326-4678-A09E-9B417FAB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937-414B-4BB2-94D3-CEABEC16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AE9-DB9C-497B-BDE3-62C47B6F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039-35D2-4739-82CF-C7AC265C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8F1-95EE-46C4-AA3F-A19C4A2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131-E07F-42E2-995F-C2B18D71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94C-0718-41C5-90D7-FF93E298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C3F-37CC-45C9-8367-8BAE231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3E5-8DE9-46E5-B5E4-DDA0A652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8A5F-89B2-4738-A83A-68552627E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457440"/>
            <a:ext cx="6858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lear Sans"/>
                <a:ea typeface="Clear Sans"/>
              </a:rPr>
              <a:t>НАСЛОВ</a:t>
            </a:r>
            <a:r>
              <a:rPr b="1" lang="en-US" sz="5400" spc="-1" strike="noStrike">
                <a:solidFill>
                  <a:srgbClr val="595959"/>
                </a:solidFill>
                <a:latin typeface="Clear Sans"/>
                <a:ea typeface="Clear Sans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lear Sans"/>
                <a:ea typeface="Clear Sans"/>
              </a:rPr>
              <a:t>ТЕМЕ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059360"/>
            <a:ext cx="6858000" cy="12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lear Sans"/>
                <a:ea typeface="Clear Sans"/>
              </a:rPr>
              <a:t>ПОДНАСЛОВ Т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43000" y="4680000"/>
            <a:ext cx="36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ffffff"/>
                </a:solidFill>
                <a:latin typeface="Clear Sans"/>
                <a:ea typeface="Clear Sans"/>
              </a:rPr>
              <a:t>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ffffff"/>
                </a:solidFill>
                <a:latin typeface="Clear Sans"/>
                <a:ea typeface="Clear Sans"/>
              </a:rPr>
              <a:t>Проф. др Петар Петрови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ffffff"/>
                </a:solidFill>
                <a:latin typeface="Clear Sans"/>
                <a:ea typeface="Clear Sans"/>
              </a:rPr>
              <a:t>Бања Лука, јун 2017. год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120600" y="103320"/>
            <a:ext cx="46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lear Sans"/>
                <a:ea typeface="Clear Sans"/>
              </a:rPr>
              <a:t>NASLOV TEME  </a:t>
            </a:r>
            <a:r>
              <a:rPr b="0" lang="en-US" sz="1400" spc="-1" strike="noStrike">
                <a:solidFill>
                  <a:srgbClr val="ffffff"/>
                </a:solidFill>
                <a:latin typeface="Clear Sans"/>
                <a:ea typeface="Clear Sans"/>
              </a:rPr>
              <a:t>PODNASLOV TE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0T07:54:27Z</dcterms:created>
  <dc:creator>Microsoft Office User</dc:creator>
  <dc:description/>
  <dc:language>en-US</dc:language>
  <cp:lastModifiedBy>Microsoft Office User</cp:lastModifiedBy>
  <dcterms:modified xsi:type="dcterms:W3CDTF">2017-09-20T08:59:49Z</dcterms:modified>
  <cp:revision>6</cp:revision>
  <dc:subject/>
  <dc:title>NASLOV TEME</dc:title>
</cp:coreProperties>
</file>