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6C1-CD38-4C47-A87F-49E275AB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802-F01C-474A-B0DD-54C24A74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67D-BAAE-45D0-B375-BCE5DEAF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451-A222-4C07-90C8-2C3368AB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0D9-52E9-43B9-A081-27573B74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AE7-B136-4B4D-8AD1-6B876339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91A-9E60-4461-B354-6F22209F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61D-92E6-4550-AE1E-3AA827B2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544-E5DE-4AC5-9A62-82890414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541-CA16-4A47-BFCA-2C674E4B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EB1-1FC6-42D1-8D9C-B2ED70C4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A2B-25C8-42ED-89D2-FF7B002B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932E-EA67-494F-9BA0-AFF11A50B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58760" y="2901960"/>
            <a:ext cx="68580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Clear Sans"/>
                <a:ea typeface="Clear Sans"/>
              </a:rPr>
              <a:t>НАСЛОВ ТЕМЕ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58760" y="3621240"/>
            <a:ext cx="68580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lear Sans"/>
                <a:ea typeface="Clear Sans"/>
              </a:rPr>
              <a:t>ПОДНАСЛОВ Т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652840" y="5021280"/>
            <a:ext cx="3670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595959"/>
                </a:solidFill>
                <a:latin typeface="Clear Sans"/>
                <a:ea typeface="Clear Sans"/>
              </a:rPr>
              <a:t>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595959"/>
                </a:solidFill>
                <a:latin typeface="Clear Sans"/>
                <a:ea typeface="Clear Sans"/>
              </a:rPr>
              <a:t>Проф. др Петар Петрови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595959"/>
                </a:solidFill>
                <a:latin typeface="Clear Sans"/>
                <a:ea typeface="Clear Sans"/>
              </a:rPr>
              <a:t>Бања Лука, јун 2017. год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433440" y="312840"/>
            <a:ext cx="203184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Clear Sans"/>
                <a:ea typeface="Clear Sans"/>
              </a:rPr>
              <a:t>НАЗИВ И ЛОГОТИП НАУЧНОГ СКУП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4392720" y="103320"/>
            <a:ext cx="46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lear Sans"/>
                <a:ea typeface="Clear Sans"/>
              </a:rPr>
              <a:t>NASLOV TEME  PODNASLOV TE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55520" y="103320"/>
            <a:ext cx="46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lear Sans"/>
                <a:ea typeface="Clear Sans"/>
              </a:rPr>
              <a:t>НАЗИВ И ЛОГОТИП НАУЧНОГ СКУП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0T07:54:27Z</dcterms:created>
  <dc:creator>Microsoft Office User</dc:creator>
  <dc:description/>
  <dc:language>en-US</dc:language>
  <cp:lastModifiedBy>Microsoft Office User</cp:lastModifiedBy>
  <dcterms:modified xsi:type="dcterms:W3CDTF">2017-09-20T09:23:43Z</dcterms:modified>
  <cp:revision>11</cp:revision>
  <dc:subject/>
  <dc:title>NASLOV TEME</dc:title>
</cp:coreProperties>
</file>