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9B2-93BF-4353-BBF2-12B9084C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077-EBB2-4D34-8515-5D543C7F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347-C68B-443F-9D29-22839D8B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462-5A29-4590-960E-C019880A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CD9-45D1-42B7-8162-20511114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9D8-883D-4A2A-8B27-D0191968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CEA-1C48-4A83-A0E0-0459ED81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C90-B52C-49A7-9ED0-400DD9E7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89B-47D8-4921-B44A-0631769E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28A-5738-4A55-9E9C-C0087CFA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416-9F17-4DCC-9745-D71751FF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822-BA88-4956-B359-3B9503B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FCD5-0FBF-4BC5-8E1E-5B1BD2E15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457440"/>
            <a:ext cx="6858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Clear Sans"/>
                <a:ea typeface="Clear Sans"/>
              </a:rPr>
              <a:t>НАСЛОВ ТЕМЕ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059360"/>
            <a:ext cx="685800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lear Sans"/>
                <a:ea typeface="Clear Sans"/>
              </a:rPr>
              <a:t>ПОДНАСЛОВ Т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36720" y="5141880"/>
            <a:ext cx="3670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lear Sans"/>
                <a:ea typeface="Clear Sans"/>
              </a:rPr>
              <a:t>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lear Sans"/>
                <a:ea typeface="Clear Sans"/>
              </a:rPr>
              <a:t>Проф. др Петар Петрови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lear Sans"/>
                <a:ea typeface="Clear Sans"/>
              </a:rPr>
              <a:t>Бања Лука, јун 2017. год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0T07:54:27Z</dcterms:created>
  <dc:creator>Microsoft Office User</dc:creator>
  <dc:description/>
  <dc:language>en-US</dc:language>
  <cp:lastModifiedBy>Microsoft Office User</cp:lastModifiedBy>
  <dcterms:modified xsi:type="dcterms:W3CDTF">2017-09-20T08:33:24Z</dcterms:modified>
  <cp:revision>4</cp:revision>
  <dc:subject/>
  <dc:title>NASLOV TEME</dc:title>
</cp:coreProperties>
</file>